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44.png" ContentType="image/png"/>
  <Override PartName="/ppt/media/image9.png" ContentType="image/png"/>
  <Override PartName="/ppt/media/image13.png" ContentType="image/png"/>
  <Override PartName="/ppt/media/image34.png" ContentType="image/png"/>
  <Override PartName="/ppt/media/image12.jpeg" ContentType="image/jpeg"/>
  <Override PartName="/ppt/media/image36.png" ContentType="image/png"/>
  <Override PartName="/ppt/media/image31.jpeg" ContentType="image/jpeg"/>
  <Override PartName="/ppt/media/image25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10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4.jpeg" ContentType="image/jpeg"/>
  <Override PartName="/ppt/media/image40.png" ContentType="image/png"/>
  <Override PartName="/ppt/media/image5.png" ContentType="image/png"/>
  <Override PartName="/ppt/media/image35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195-E4EB-49BA-A797-B29CB81A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345F-3DB3-46D7-8CE6-919D464E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E06-7B3A-4DEE-ADC5-2F1AFBD24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EFE-9BC9-4962-A9AC-2F61EE94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F44-28F3-4201-9CB3-BCA4A7B0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FE16-25C8-4D7D-A9E0-DE87978C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6D2-22DC-4ECC-BBB2-3214203E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18C-F98D-4882-A539-8156CA92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491-0FB7-468E-B31E-2C003D21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CBB0-C5E3-4B26-A72A-37555BB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0E2-B772-410F-92AC-0638A9A3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2E32-79FA-406D-BF82-F9E70E8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E5FD-9796-46AC-865D-FFB12BEB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jpeg"/><Relationship Id="rId3" Type="http://schemas.openxmlformats.org/officeDocument/2006/relationships/image" Target="../media/image17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8400" y="1295280"/>
            <a:ext cx="486720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NIMALE DIN MAR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 OCE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380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876920" y="380988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4800600"/>
            <a:ext cx="4514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VULPEA DE MAR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25146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ieste in apropierea coastelor marilor europ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1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0" b="5407"/>
          <a:stretch/>
        </p:blipFill>
        <p:spPr>
          <a:xfrm>
            <a:off x="4572000" y="320040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0" t="1461" r="1929" b="5896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876920" y="304920"/>
            <a:ext cx="3809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RPIL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144792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re organe ce produc curent electric de 70-80 vol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Traieste in marile calde si temperate.Are 60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715000" y="0"/>
            <a:ext cx="3429000" cy="3581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rcRect l="0" t="0" r="0" b="10410"/>
          <a:stretch/>
        </p:blipFill>
        <p:spPr>
          <a:xfrm>
            <a:off x="5715000" y="3581280"/>
            <a:ext cx="3429000" cy="3276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 rot="5400000">
            <a:off x="2590200" y="2971440"/>
            <a:ext cx="5562720" cy="838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ETACE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600200"/>
            <a:ext cx="42674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nt mamifere adaptate exclusiv la viata acva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rpul lor este pisci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ntre cele mai reprezentative : balena, casalotul, delfin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3197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0400" y="3200400"/>
            <a:ext cx="5943600" cy="3657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>
            <a:lum contrast="42000"/>
          </a:blip>
          <a:srcRect l="0" t="0" r="0" b="17469"/>
          <a:stretch/>
        </p:blipFill>
        <p:spPr>
          <a:xfrm>
            <a:off x="0" y="0"/>
            <a:ext cx="31910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 rot="5400000">
            <a:off x="1537920" y="2729160"/>
            <a:ext cx="4114800" cy="637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BALENA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581280"/>
            <a:ext cx="48769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e cel mai mare mamifer, lung de 33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gura are niste lame cornoase( fanoa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este in marile arctice si antarctice( Balena albastr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animClr clrSpc="rgb">
                                      <p:cBhvr>
                                        <p:cTn id="174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75" dur="2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0" t="2620" r="0" b="2620"/>
          <a:stretch/>
        </p:blipFill>
        <p:spPr>
          <a:xfrm>
            <a:off x="0" y="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3079" t="7655" r="4482" b="7655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876920" y="304920"/>
            <a:ext cx="3429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SALOTU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295280"/>
            <a:ext cx="4190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re dinti pe maxilarul inferior si se hraneste cu cefalop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raieste in Oceanul Atlan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re 10-18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38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0" t="0" r="0" b="9753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563868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200400" y="304920"/>
            <a:ext cx="4343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LFINU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1523880"/>
            <a:ext cx="5181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Este unul din cele mai inteligente si simpatice animale.Traieste in toate marile, urmaruind adesea, in carduri vapoarele.Are dinti pe ambele maxilare.Are 2,50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59436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7510" r="0" b="5862"/>
          <a:stretch/>
        </p:blipFill>
        <p:spPr>
          <a:xfrm>
            <a:off x="5943600" y="0"/>
            <a:ext cx="3200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90720" y="2133720"/>
            <a:ext cx="4114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MIFERE ADAPTAT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VIATA MARIN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blinds dir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0" b="5713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41972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5181480" y="457200"/>
            <a:ext cx="28195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OC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676520"/>
            <a:ext cx="6858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raieste in nordul oceanelor Atlantic si Pa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ste si isi creste puii pe us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2590920" y="685800"/>
            <a:ext cx="38862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RS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590920"/>
            <a:ext cx="5943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aninii de pe maxilarul superior sunt mai dezvolt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raieste in marile nord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re 4,50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3276720" cy="238104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5562720" y="4038480"/>
            <a:ext cx="3081240" cy="21337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46" name=""/>
          <p:cNvSpPr txBox="1"/>
          <p:nvPr/>
        </p:nvSpPr>
        <p:spPr>
          <a:xfrm rot="5400000">
            <a:off x="-748080" y="1814400"/>
            <a:ext cx="335268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 Black"/>
              </a:rPr>
              <a:t>STURIONI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447920" y="685800"/>
            <a:ext cx="7467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nt pesti cu scheletul cartilaginos, in mare masura.Bolta cutiei craniene este osoa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Dintre cei mai reprezentativi sturioni, intalnim :pastruga, nisetrul, morunul, cega, sip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3809880"/>
            <a:ext cx="4419720" cy="3048120"/>
          </a:xfrm>
          <a:prstGeom prst="rect">
            <a:avLst/>
          </a:prstGeom>
          <a:ln w="38160">
            <a:solidFill>
              <a:srgbClr val="66ffff"/>
            </a:solidFill>
            <a:miter/>
          </a:ln>
        </p:spPr>
      </p:pic>
      <p:sp>
        <p:nvSpPr>
          <p:cNvPr id="50" name=""/>
          <p:cNvSpPr txBox="1"/>
          <p:nvPr/>
        </p:nvSpPr>
        <p:spPr>
          <a:xfrm>
            <a:off x="914400" y="304920"/>
            <a:ext cx="26668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ASTRUGA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371600"/>
            <a:ext cx="66294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ste un peste marin care isi depune icrele in apele dul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n tara noastra le depune in Dun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crele sunt ne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astruga poate atinge dimensiunea de 1,50-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4495680" cy="19051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18000"/>
          </a:blip>
          <a:srcRect l="0" t="3723" r="6488" b="3723"/>
          <a:stretch/>
        </p:blipFill>
        <p:spPr>
          <a:xfrm>
            <a:off x="0" y="0"/>
            <a:ext cx="4495680" cy="22860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3"/>
          <a:srcRect l="7642" t="4872" r="3177" b="7308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5400000">
            <a:off x="2837880" y="2952720"/>
            <a:ext cx="4114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MORUNU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590920"/>
            <a:ext cx="4114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ste un peste marin care isi depune icrele in apele dul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Este cel mai mare peste intalnit la no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re 5-9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38160">
            <a:solidFill>
              <a:srgbClr val="0066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410080" y="914400"/>
            <a:ext cx="2743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ISETRUL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590920"/>
            <a:ext cx="39621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e un peste intalnit in Marea Neagra si Marea Casp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i depune icrele in apele dulci, iar toamna revine in m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e  2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>
            <a:lum contrast="12000"/>
          </a:blip>
          <a:srcRect l="0" t="0" r="0" b="5346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5257800" cy="1752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26496" r="0" b="0"/>
          <a:stretch/>
        </p:blipFill>
        <p:spPr>
          <a:xfrm>
            <a:off x="0" y="0"/>
            <a:ext cx="5257800" cy="2209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867280" y="1143000"/>
            <a:ext cx="236232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G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590920"/>
            <a:ext cx="44956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raieste in raurile din sud-estul Europei, bazinul Marii Neg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La noi in intalnim in Dunare,, Tisa, M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re 0,60-1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124080"/>
            <a:ext cx="3657600" cy="37339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048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3124080"/>
            <a:ext cx="5410080" cy="37339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69" name=""/>
          <p:cNvSpPr txBox="1"/>
          <p:nvPr/>
        </p:nvSpPr>
        <p:spPr>
          <a:xfrm>
            <a:off x="914400" y="457200"/>
            <a:ext cx="15336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IPU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9051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l intalnim in Oceanul Atlantic, Marea Mediterana si Marea Nordului.Are 1,50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4419720"/>
            <a:ext cx="2210040" cy="175248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>
            <a:lum contrast="12000"/>
          </a:blip>
          <a:srcRect l="0" t="0" r="0" b="5872"/>
          <a:stretch/>
        </p:blipFill>
        <p:spPr>
          <a:xfrm>
            <a:off x="6553080" y="3886200"/>
            <a:ext cx="1752840" cy="243828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sp>
        <p:nvSpPr>
          <p:cNvPr id="74" name=""/>
          <p:cNvSpPr txBox="1"/>
          <p:nvPr/>
        </p:nvSpPr>
        <p:spPr>
          <a:xfrm>
            <a:off x="1295280" y="1371600"/>
            <a:ext cx="60199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ESTI CU SCHELE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TILAGIN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952880" y="3276720"/>
            <a:ext cx="4191120" cy="3581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327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762120" y="380880"/>
            <a:ext cx="365760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CHINUL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26708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raieste in Marea Mediterana si Oceanul Atlant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e 6-8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24:09Z</dcterms:created>
  <dc:creator>useer</dc:creator>
  <dc:description/>
  <dc:language>en-US</dc:language>
  <cp:lastModifiedBy>useer</cp:lastModifiedBy>
  <dcterms:modified xsi:type="dcterms:W3CDTF">2006-03-15T09:21:41Z</dcterms:modified>
  <cp:revision>6</cp:revision>
  <dc:subject/>
  <dc:title>Diapozitivul 1</dc:title>
</cp:coreProperties>
</file>